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E47-1F9B-425B-8BDE-CCEBE311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849-9225-4315-BDEA-84FF7232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615-5FE3-45E3-83E8-2D4226A4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C56-6BC3-43B6-8E66-8EE7BEC3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35C-7D56-4C3A-8167-F35B814B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3C2-2640-4367-BC67-DBA0E18B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583-A368-4714-B044-E28D8DD1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3E8-ECF7-489C-A7F3-F475E2E6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F9D-BFAE-4256-9D09-D5019365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4B4-34D1-447E-8F9B-147024BB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434-3557-445B-B289-9E6AC69D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677-6C15-4F84-AAB4-E0295944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5D32-8ED2-4CA9-88F6-87EDC5611169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2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7720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Business Operations Support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Task Description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Josef Baure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RD 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3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362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ask Descriptio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lanning Process, Support and Tool Defini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ool defini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and steering of tool modif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scenario planning too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lignment global for too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lanning proces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wner of planning process descrip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lignment global proces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ntrol process implementation and us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valuation and reporting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and steering availability of reporting capabilities of too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anagement of accounts in Planning Tool (create, delete, etc.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Ensure opening and closing of project accou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lausibility chec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raining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ool Hotlin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362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ask Descriptio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Roadmap planning, controlling and report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Roadmap and scenario plann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heck availability of needed input for plann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Responsible for planning organis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Realization of planning round (start, stop, task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Align global planning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Controll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ontrolling of planning result (Cost, Ressources, Load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ontrolling of planned budget together with B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Benchmark of project effor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Align global controll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Report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Define and implement reporting structu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Ressource and budget repor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Align global repor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362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ask Descriptio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udget and Portfolio align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a0e66"/>
                </a:solidFill>
                <a:latin typeface="Minion"/>
              </a:rPr>
              <a:t>Budget and portfolio align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Member of Malpha process tea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Budget and portfolio alignment with C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Investigation of roadmap scenario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easibility of features, timeline and ressourc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Align global activiti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Align global roadmap and portfolio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362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ask Descriptio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artner manag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a0e66"/>
                </a:solidFill>
                <a:latin typeface="Minion"/>
              </a:rPr>
              <a:t>RD supplier interface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a0e66"/>
                </a:solidFill>
                <a:latin typeface="Minion"/>
              </a:rPr>
              <a:t>Contract Management Support of: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ceptual contract setup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tract preparation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tract negotioations and manage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tract implement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tract Q&amp;A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a0e66"/>
                </a:solidFill>
                <a:latin typeface="Minion"/>
              </a:rPr>
              <a:t>Cross functional activities/across all platforms. Support of: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strategy and business mode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make or buy decis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partner selec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project tracking/steering board/escal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partner rat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feedback loop and improve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a0e66"/>
                </a:solidFill>
                <a:latin typeface="Minion"/>
              </a:rPr>
              <a:t>BOS USPs: not limited t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one projec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one platform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one suppli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-&gt;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Business focu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Roland Puscher</dc:creator>
  <dc:description/>
  <dc:language>en-US</dc:language>
  <cp:lastModifiedBy> </cp:lastModifiedBy>
  <dcterms:modified xsi:type="dcterms:W3CDTF">2006-05-24T08:57:43Z</dcterms:modified>
  <cp:revision>139</cp:revision>
  <dc:subject/>
  <dc:title>PowerPoint 簡報</dc:title>
</cp:coreProperties>
</file>